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4F3-5544-44D7-9458-A4D68D96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84B-476E-48B5-AC66-7A2DA36E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A031-FE73-4538-BE23-15075246B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CE9-BA43-4C8F-B5E6-3B6B36B9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DA07-EB8F-42D9-9764-FEFB0B3A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45C0-C389-4E59-B6ED-382AFEA4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25D7-412A-4805-858C-E75C0F5C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E991-F1A6-4BEB-95DB-6BB05ABF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1284-C836-4CD1-9319-DE728E66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868E-EAEE-428B-9B57-DB891019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BA3A-49D7-466F-AA46-A199306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B7CB-10D1-4FA4-9E5F-0C8CC883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DA9C-3955-4BD9-A79A-27454EFB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42E7-E23E-4D49-8A05-E100FE21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FF5C-5B70-47A6-ADD5-DB673986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013C-5D8D-491E-84F2-332A755B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D24E-5206-47D2-9D77-012C5950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666-D349-41D5-801F-4D033C83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A25-023D-4EB4-9EB0-A8E35CBF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FA9-62B6-4C50-A1DF-923BF11E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132-FAC0-4952-972F-01ACEE85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48D-4A47-4C21-A1FC-65816AB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D2D-6CE8-412C-83B6-5F5A71B0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A57-AFB3-4E34-9F3C-C5590BCD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21B5-3FEA-430A-8E2F-4D84EA5FEE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4B92-4251-48F0-B49B-7ABFF96FE9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talesminiatures.com/George%20Washington-G.%20Stuart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closeouts.com/images/small/isbn039/0395884012-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maryannweidt.com/books/bk_parks.html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graph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Inform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ut Real Peo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685800"/>
            <a:ext cx="1814400" cy="2438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533520" y="228600"/>
            <a:ext cx="1828800" cy="2143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400800" y="3657600"/>
            <a:ext cx="161784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1808280" cy="2286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3581280" y="510552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3276720" y="457200"/>
            <a:ext cx="26668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graphies have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information about interesting l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st important accomplishments about a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about someone famous—but not alway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56080" y="2414520"/>
            <a:ext cx="29782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utobiographies are written BY the person they are ab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graphy is written by someone about ANOTHER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589720" y="2709720"/>
            <a:ext cx="2147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metimes a book just tells you about a part of a person’s lif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2171880"/>
            <a:ext cx="4648320" cy="39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me authors are famous for writing biograph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an Fri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Ad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1905120" cy="2457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24440" y="3333600"/>
            <a:ext cx="295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more books you read about the same person, the more you lear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A Picture Book of Rosa Parks  - Dr. Martin Luther King, Jr. Day Books for Kids"/>
          <p:cNvPicPr/>
          <p:nvPr/>
        </p:nvPicPr>
        <p:blipFill>
          <a:blip r:embed="rId1"/>
          <a:stretch/>
        </p:blipFill>
        <p:spPr>
          <a:xfrm>
            <a:off x="1825560" y="2017800"/>
            <a:ext cx="2529000" cy="1987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If a Bus Could Talk - The Story of Rosa Parks  - Dr. Martin Luther King, Jr. Day Books for Kids"/>
          <p:cNvPicPr/>
          <p:nvPr/>
        </p:nvPicPr>
        <p:blipFill>
          <a:blip r:embed="rId2"/>
          <a:stretch/>
        </p:blipFill>
        <p:spPr>
          <a:xfrm>
            <a:off x="5784840" y="2017800"/>
            <a:ext cx="2527200" cy="1987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1427040" cy="198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Rosa Park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86400" y="4249800"/>
            <a:ext cx="1322640" cy="1776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809880" y="3962520"/>
            <a:ext cx="15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 a biography that is JUST RIGHT for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can read it (5 finger te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want to read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4:46:07Z</dcterms:created>
  <dc:creator>paradisj</dc:creator>
  <dc:description/>
  <dc:language>en-US</dc:language>
  <cp:lastModifiedBy>Judith M Paradis</cp:lastModifiedBy>
  <dcterms:modified xsi:type="dcterms:W3CDTF">2008-01-22T13:51:39Z</dcterms:modified>
  <cp:revision>3</cp:revision>
  <dc:subject/>
  <dc:title>Biographies</dc:title>
</cp:coreProperties>
</file>